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11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6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8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6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8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11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11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MediumExt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HelveticaNeue Medium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HelveticaNeue LightEx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HelveticaNeue LightEx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Neue LightEx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HelveticaNeue LightExt"/>
            </a:endParaRPr>
          </a:p>
        </p:txBody>
      </p:sp>
      <p:sp>
        <p:nvSpPr>
          <p:cNvPr id="2" name=""/>
          <p:cNvSpPr/>
          <p:nvPr/>
        </p:nvSpPr>
        <p:spPr>
          <a:xfrm>
            <a:off x="4062600" y="6616800"/>
            <a:ext cx="97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52C6B7-CF1A-469A-AECD-D8A18B52C2D7}" type="datetime"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07/31/26</a:t>
            </a:fld>
            <a:r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 / w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82000" y="6616800"/>
            <a:ext cx="103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Seite </a:t>
            </a:r>
            <a:fld id="{C27054CC-31E3-44CB-9B2E-C448FE274E4C}" type="slidenum">
              <a:rPr b="0" lang="en-US" sz="900" spc="-1" strike="noStrike">
                <a:solidFill>
                  <a:srgbClr val="000000"/>
                </a:solidFill>
                <a:latin typeface="HelveticaNeue LightEx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457200"/>
          <a:ext cx="190476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1904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5440" y="1295280"/>
          <a:ext cx="8818560" cy="40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95280"/>
                    <a:ext cx="881856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4:18:43Z</dcterms:created>
  <dc:creator>Waser Claudia</dc:creator>
  <dc:description/>
  <dc:language>en-US</dc:language>
  <cp:lastModifiedBy>Waser Claudia</cp:lastModifiedBy>
  <cp:lastPrinted>2002-10-30T10:48:48Z</cp:lastPrinted>
  <dcterms:modified xsi:type="dcterms:W3CDTF">2002-10-30T12:36:55Z</dcterms:modified>
  <cp:revision>3</cp:revision>
  <dc:subject/>
  <dc:title>Kein Folientitel</dc:title>
</cp:coreProperties>
</file>