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62485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HelveticaNeue MediumEx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HelveticaNeue LightEx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HelveticaNeue LightEx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62485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HelveticaNeue MediumEx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HelveticaNeue LightEx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11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HelveticaNeue LightEx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HelveticaNeue LightEx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11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HelveticaNeue LightEx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62485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HelveticaNeue MediumEx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HelveticaNeue LightEx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856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HelveticaNeue LightEx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484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HelveticaNeue LightEx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HelveticaNeue LightEx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856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HelveticaNeue LightEx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484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HelveticaNeue LightEx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62485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HelveticaNeue MediumEx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HelveticaNeue LightEx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62485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HelveticaNeue MediumEx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HelveticaNeue LightEx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62485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HelveticaNeue MediumEx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HelveticaNeue LightEx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11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HelveticaNeue LightEx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62485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HelveticaNeue MediumEx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1920" y="228600"/>
            <a:ext cx="62485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HelveticaNeue LightEx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62485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HelveticaNeue MediumEx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HelveticaNeue LightEx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11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HelveticaNeue LightEx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HelveticaNeue LightEx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62485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HelveticaNeue MediumEx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HelveticaNeue LightEx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11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HelveticaNeue LightEx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11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HelveticaNeue LightEx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62485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HelveticaNeue MediumEx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HelveticaNeue LightEx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11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HelveticaNeue LightEx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HelveticaNeue LightEx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62485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elveticaNeue MediumExt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HelveticaNeue MediumEx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HelveticaNeue LightEx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Neue LightExt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HelveticaNeue LightExt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HelveticaNeue LightExt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Neue LightExt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HelveticaNeue LightExt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HelveticaNeue LightEx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Neue LightExt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HelveticaNeue LightExt"/>
            </a:endParaRPr>
          </a:p>
          <a:p>
            <a:pPr lvl="3" marL="1600200" indent="-228600">
              <a:spcBef>
                <a:spcPts val="300"/>
              </a:spcBef>
              <a:buClr>
                <a:srgbClr val="000000"/>
              </a:buClr>
              <a:buFont typeface="HelveticaNeue LightExt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Neue LightExt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HelveticaNeue LightExt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Font typeface="HelveticaNeue LightEx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Neue LightExt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HelveticaNeue LightExt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Font typeface="HelveticaNeue LightEx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Neue LightExt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HelveticaNeue LightExt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Font typeface="HelveticaNeue LightEx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Neue LightExt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HelveticaNeue LightExt"/>
            </a:endParaRPr>
          </a:p>
        </p:txBody>
      </p:sp>
      <p:sp>
        <p:nvSpPr>
          <p:cNvPr id="2" name=""/>
          <p:cNvSpPr/>
          <p:nvPr/>
        </p:nvSpPr>
        <p:spPr>
          <a:xfrm>
            <a:off x="4062600" y="6616800"/>
            <a:ext cx="972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41DD257-8FAC-4D54-88C2-A1409E95D37B}" type="datetime">
              <a:rPr b="0" lang="en-US" sz="900" spc="-1" strike="noStrike">
                <a:solidFill>
                  <a:srgbClr val="000000"/>
                </a:solidFill>
                <a:latin typeface="HelveticaNeue LightExt"/>
              </a:rPr>
              <a:t>07/31/26</a:t>
            </a:fld>
            <a:r>
              <a:rPr b="0" lang="en-US" sz="900" spc="-1" strike="noStrike">
                <a:solidFill>
                  <a:srgbClr val="000000"/>
                </a:solidFill>
                <a:latin typeface="HelveticaNeue LightExt"/>
              </a:rPr>
              <a:t> / w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082000" y="6616800"/>
            <a:ext cx="103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elveticaNeue LightExt"/>
              </a:rPr>
              <a:t>Seite </a:t>
            </a:r>
            <a:fld id="{414FF1F2-3B0F-4660-8BEE-22D3583B9C00}" type="slidenum">
              <a:rPr b="0" lang="en-US" sz="900" spc="-1" strike="noStrike">
                <a:solidFill>
                  <a:srgbClr val="000000"/>
                </a:solidFill>
                <a:latin typeface="HelveticaNeue LightExt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6477120" y="457200"/>
          <a:ext cx="1904760" cy="43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77120" y="457200"/>
                    <a:ext cx="1904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325440" y="1295280"/>
          <a:ext cx="8818560" cy="4040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295280"/>
                    <a:ext cx="8818560" cy="40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4T14:18:43Z</dcterms:created>
  <dc:creator>Waser Claudia</dc:creator>
  <dc:description/>
  <dc:language>en-US</dc:language>
  <cp:lastModifiedBy>Waser Claudia</cp:lastModifiedBy>
  <cp:lastPrinted>2002-10-30T10:48:48Z</cp:lastPrinted>
  <dcterms:modified xsi:type="dcterms:W3CDTF">2002-10-30T12:36:55Z</dcterms:modified>
  <cp:revision>3</cp:revision>
  <dc:subject/>
  <dc:title>Kein Folientitel</dc:title>
</cp:coreProperties>
</file>